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417DF-4A74-4BA1-BB40-B5DF7241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F03B-0DDA-4ACC-B0E0-80A4A6F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E251-D09A-4932-9C49-7F41F64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00AC-AF07-45FB-AEB2-8028B296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60B-6996-4B73-B754-43957533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653C-4AEA-4712-886C-D779A76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0EB-AA37-49C5-89AC-C3E7146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1156-137E-4A79-AC95-D213B9C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887-7BF0-455B-BFE9-F3C0C7AB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5B27-F8B7-422D-9F78-44EAD1DB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0B5B-6E08-4EF4-82C8-F3F9998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A241-C1BC-48DA-985C-96C45FD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EA1-A123-4A6A-860F-95EBEAD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F1AE-58AD-4183-BA39-AC095B2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6C0-42C9-4205-9B95-74F18E88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25E9-84E0-4FF7-8DDB-F6A51925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88A8-9A63-4985-86B9-7133F9F8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D4BC-5439-4133-AF0A-9EF7E187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0E17-324B-4F4A-A91E-C72FF3D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79CA-EC53-41F3-9008-3A134AD0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13B9-A825-4FBC-8643-7425D94D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EB1A-4FDE-4C13-9366-53E476BB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E48-397D-4506-AFAF-6BD54C5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B1BF-A7C8-4704-AE49-91D1108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3E98-4EC9-4C82-B3FD-1ED8680A04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3009-67C9-4B5D-9B14-AD194992CD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2342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рождение Олимпийских иг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·  Более тысячи лет развалины Олимпии так и оставались нетронутыми. Только в 1824 году английский археолог лорд Станхоф приступил к первым серьезным раскопкам на берегах Алфея и нарисовал план Олимпии, какой она была в античные времена. А еще раньше, в 1707 году, монах-бенедиктинец француз Дон Бернар де Монфокон в своей книге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"Палеография Греции"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товал за раскопки олимпийского городка. По иронии судьбы человек церкви стал новым открывателем Олимпии - места, пятнадцать веков назад осужденного церковь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1" descr="Олимпия"/>
          <p:cNvPicPr/>
          <p:nvPr/>
        </p:nvPicPr>
        <p:blipFill>
          <a:blip r:embed="rId1"/>
          <a:stretch/>
        </p:blipFill>
        <p:spPr>
          <a:xfrm>
            <a:off x="468360" y="5157720"/>
            <a:ext cx="2663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7. Её просят лыжни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8. Предки кроссов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9. Летающий участник бадминтон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0. Чем покрывали гладиаторскую арену в Древнем Риме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1. Какой русской игре не хватает 36 клеток до международного вариант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2. Ее должен взять прыгу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3.Почему лёгкую атлетику называют королевой спорта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4.Сколько видов спорта существует в мире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)30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 50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60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 4000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5. Пара лошадей пробежала 40км. Сколько пробежала каждая лошадь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6.Как часто проводятся Олимпийские игры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7.Какова длина марафонской дистанци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) 4219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 38585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47122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8.В какой игре пользуются самым легким мячом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9.В какой игре используются мяч наибольшей величин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0.Назвать 5 спортивных терминов, начинающихся с буквы «С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1.Что означает переплетение разноцветных колец в эмблеме олимпийски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гр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2. Какая длина беговой дорожки на спортивном стадионе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3. От какого слова образовалось слово стадион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4. Начиная с 1924 года к словам «Олимпийские игры» стали добавлять ещё одно то или иное слово. Какое?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7. Её просят лыжники. (Лыжню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8. Предки кроссовок. (Кед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9. Летающий участник бадминтона. (Воланчик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. Чем покрывали гладиаторскую арену в Древнем Риме? (Песко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1. Какой русской игре не хватает 36 клеток до международного вариант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Шашк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2. Ее должен взять прыгун. (Высоту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3.Почему лёгкую атлетику называют королевой спорта? (Её называют так потому, что это самый древний из известных нам видов спорта. На олимпийских играх в Древней Греции спортсмены соревновались в основно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нно по легкоатлетическим направлениям. Считается , что лёгкая атлет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одилась около 776г. до н.э., когда греки соревновались в беге (в то время на одну стадию - 192 м, отсюда и слово - стадион) Позже появились и другие виды бега на длинные и короткие дистанции, и спортивная ходьба. Затем в легкоатлетические виды спорта включили различные виды метания (диска, молота, копья), толкание ядра. А ещё королевой спорта её называют потому, что лёгкая атлетика включает самое большое количество видов спортивных единоборств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4.Сколько видов спорта существует в мир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(300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 5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6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 4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5. Пара лошадей пробежала 40км. Сколько пробежала каждая лошадь? (40к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6.Как часто проводятся Олимпийские игры? (один раз в четыре год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7.Какова длина марафонской дистанци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 (42км 195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8.В какой игре пользуются самым легким мячом? ( настольном теннисе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9.В какой игре используются мяч наибольшей величины (баскетбо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0.Назвать 5 спортивных терминов, начинающихся с буквы «С»(стадион, сетка, секундомер, спартакиада, спринт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1.Что означает переплетение разноцветных колец в эмблеме олимпийски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гр? (символ дружбы пяти континен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2. Какая длина беговой дорожки на спортивном стадионе? (400м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3. От какого слова образовалось слово стадион? (От слова «стадя» мера длин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4. Начиная с 1924 года к словам «Олимпийские игры» стали добавлять ещё одно то или иное слово. Какое? (Летние или зимние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В каком месяце 2014 года состоятся в Сочи зимние Олимпийские игры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Декабр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Январ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Февраль (7-23 февраля 2014 год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Мар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Месяц проведения в Сочи Паралимпийских игр-201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Январ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Феврал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Март (7-16 марта 2014 года.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Апрел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Какой объект будет построен в Олимпийском парке Сочи?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Ипподром;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Автодром (Для проведения этапов чемпионата Формулы-1. Первое Гран-при России пройдет осенью 2014 года.);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Велодром;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) Космодром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. Вятские спортсмены неоднократные чемпионы и призеры Олимпийских игр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биатлону Владимир Меланьи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биатлону Иван Бя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лыжным гонкам Юрий Скоб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хоккею Александр Мальце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лыжным гонкам Евгений Беляе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хоккею Владимир Мышки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й чемпион по хоккею Андрей Трефил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ёр олимпийских игр по фигурному катанию Оксана Домн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Пьер де Кубертен"/>
          <p:cNvPicPr/>
          <p:nvPr/>
        </p:nvPicPr>
        <p:blipFill>
          <a:blip r:embed="rId1"/>
          <a:stretch/>
        </p:blipFill>
        <p:spPr>
          <a:xfrm>
            <a:off x="250920" y="333360"/>
            <a:ext cx="3241440" cy="5832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3419640" y="595080"/>
            <a:ext cx="939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ранцузский общественн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еятель Пьер де Куберт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ступил с предлож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зрод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лимпийские игры. Он считал, ч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деи олимпий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жения вдохнут в человече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"дух свобод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ирного соревнования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из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вершенствования«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будут способствовать культурн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трудничеству наро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5 ноября 1892 год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в парадном зале Сорбонны в Париже Кубертен прочитал лекцию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"Олимпийский ренессанс"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Именно тогда он произнес свою знаменитую фразу: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- Нужно сделать спорт интернациональным, нужно возродить Олимпийские игры!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71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мощью друзей во многих странах Кубертену удалось организовать всемирную встречу сторонников олимпизма. Эта встреча - а точнее Учредительный конгресс - состоялась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3 июня 1894 год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се там же в Сорбонне, в зале, украшенном аллегорическими фресками. Двумя тысячами делегатами от двенадцати стран единогласно было принято решение о возрождении Олимпийских игр и учреждении Международного олимпийского комитета (МОК). Это высший руководящий орган олимпийского движения, в состав которого вошли четырнадцать представителей от двенадцати стран, в том числе от России - генерал А. Д. Бутовск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8360" y="1106640"/>
            <a:ext cx="823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бы протянуть нить, связывающую дв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ивилизации - эллинскую и нашу, мес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дения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I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лимпийских игр современ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ыли выбраны Афины. Годом I Олимпиады бы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ван 1896-й. И с тех пор каждые четыре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планете пробегает огонь, зажженный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веянном дыханием веков алтаре Олимп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имние Олимпийские иг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. 1924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Шамони. Франция. Первые зимние Олимпийские иг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. 1928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анкт-Мориц. Швейцар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II. 1932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Лейк-Плэсид. СШ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IV. 1936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Гармиш-Партенкирхен. Герм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V). 1940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Гармиш-Партенкирхен. Германия. Олимпийские игры отменены из-за начала Второй Мировой войны в Европ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VI). 1944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ортина д'Ампеццо. Италия. Олимпийские игры отменены из-за продолжения Второй Мировой вой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V. 1948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анкт-Мориц. Швейцар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VI. 1952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сло. Норвег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VII. 1956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Кортина д'Ампеццо. Итал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VIII. 1960 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кво-Вэлли.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2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IX. 1964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нсбрук. Австр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. 1968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Гренобль. Франц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I. 1972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аппоро. Япо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II. 1976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нсбрук. Австр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III. 1980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Лейк-Плэсид. СШ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IV. 1984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араево. Югослав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V. 1988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Калгари. Кана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VI. 1992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Альбервиль. Франция. МОК принял решения сдвинуть время проведения зимних Олимпийских игр на два года, относительно летних Олимпийских игр. Это было сделано, чтобы окончательно отделить зимние Олимпийские игры от летних, и способствовать популяризации Олимпийского движе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VII. 1994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Лиллехаммер. Норвег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VIII. 1998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Нагано. Япо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IX. 2002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олт-Лейк-Сити. СШ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X. 2006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Турин. Итал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XI. 2010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Ванкувер. Кана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XXII. 2014 г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Сочи. Российская Федерация. Сочи выиграл конкурс среди городов, подавших заявку на проведение иг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портивная моза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Начало пути к финиш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Чего не надо, если есть сила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Инструмент спортивного судь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Боксерский кор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Боксёрская трехминут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Спортивный снаряд для перетягива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. "Бородатый" спортивный снаряд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8. Мяч вне иг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. Передача мяча в игр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. Игра с мячом-дыне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1. Русский народный бейсбо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. Бейсбольная ударниц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3. Танцор на льд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4. Спортсмен, который ходит сид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5. Это имя объединило и известного шахматиста и юного м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. Молодой спортсмен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Спортивная мозаи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Начало пути к финишу. (Стар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Чего не надо, если есть сила? (Ум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Инструмент спортивного судьи. (Свисток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Боксерский корт. (Рин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Боксёрская трехминутка. (Раунд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Спортивный снаряд для перетягивания. (Кана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. "Бородатый" спортивный снаряд. (Козё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8. Мяч вне игры. (Ау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. Передача мяча в игре. (Пас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. Игра с мячом-дыней (Регб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1. Русский народный бейсбол. (Лапт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2. Бейсбольная ударница. (Бит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3. Танцор на льду.(Фигурис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4. Спортсмен, который ходит сидя. (Шахматис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5. Это имя объединило и известного шахматиста и юного мага. (Гарр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. Молодой спортсмен. (Юниор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6:07:25Z</dcterms:created>
  <dc:creator>Андрей</dc:creator>
  <dc:description/>
  <dc:language>en-US</dc:language>
  <cp:lastModifiedBy>Admin</cp:lastModifiedBy>
  <dcterms:modified xsi:type="dcterms:W3CDTF">2014-02-06T10:57:53Z</dcterms:modified>
  <cp:revision>7</cp:revision>
  <dc:subject/>
  <dc:title>Слайд 1</dc:title>
</cp:coreProperties>
</file>